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50DB-033B-48BE-BDA9-4C7C2639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300-BB9F-403C-A97F-E62170C2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2342-DD39-4C0F-8E69-1CCBDE7D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F3A9-280D-4D03-9092-35E0E9F6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1853E-FD73-4A88-A094-82D0C0DF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EA875-5F49-400F-A3E5-3C050FAF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E8200-925B-4B92-BA21-AB395597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2F9E6-3AE3-4517-A1F7-CF3BE246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21FE0-F87D-40E0-B656-86207980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01252-AD4C-49B9-AFB8-5FA3F76A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E7FB9-8642-4226-B034-5F815017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8E4-3940-4DEB-B169-33FB5B4D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DAA31-8395-4CCA-A239-9E198BA2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FB6BC-7D16-47FC-A9EE-1303B1A3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640B7-C968-4D59-9880-3C195C93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71298-4EBC-4482-B9F5-E8EAE09D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9F506-EA82-469D-8C8D-EA3EC700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597-3D54-4FB8-8AF0-1398E6AA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B14-4F8C-40B4-AC81-2CE36C29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CB7-D8BE-45C1-977E-DD410AD0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E0A5-5238-467B-879D-38E787BF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3D4-9C9F-47B7-873B-C392F5AF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438-BCD5-453D-874A-C14E4CA4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88A-76CD-4121-AD78-24F49388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755C-3047-4BA7-A4E8-6F41514600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71E4-2285-47AD-8E61-59FF326A5C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533520"/>
            <a:ext cx="76201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P REVIEW PART 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LONIZATION T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ECONSTRU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e-Revolution Issu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s for Reven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Sugar Act (1</a:t>
            </a:r>
            <a:r>
              <a:rPr b="0" lang="en-US" sz="2400" spc="-1" strike="noStrike" baseline="30000">
                <a:solidFill>
                  <a:srgbClr val="ffcc00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Stamp Act (Most protest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wnshend Ac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s for Contro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uartering 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laratory 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tolerable 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lonial respons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mp Act Congre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ston Massac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ns of liber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ston Tea Par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ommittees of correspond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rst / Second Continental Congres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770400" y="6095880"/>
            <a:ext cx="78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  <a:ea typeface="Arial"/>
              </a:rPr>
              <a:t>What was virtual representation?  All members of Parliament repres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  <a:ea typeface="Arial"/>
              </a:rPr>
              <a:t>all British subjec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utcomes of American Revol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eaty of Paris 1783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dependence / Territory / Resumption of Tr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Governm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ticles of Confede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ak = no executive, no power to tax, collect, or borrow, no power to regulate trade (BIG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W Ordina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Why is this important in the long run? Rules for territories and stat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blems lead to Constitutional Conven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reation of a Constitu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Compromise = Ke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J Plan:   Articles of Conf with more pow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A Plan:  Three branches, bicameral leg, proportional rep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eat (Connecticut) Compromise:  Proportional rep + uniform rep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/5 Compromise:  Settles rep and tax status of sla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 slave discussion till 1807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doption of the Constitu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deralist vs. Antifederalis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ill of Rights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protect who from what?) people from too strong of a govern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W – First Presid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efferson vs. Hamilton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Interpretation of the Constitution (strict vs. loose)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ssumption, National Bank, (challenge what?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Formation of two-party syste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2 John Adam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deralist Agend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acteristics of a Federalis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Interpretation? Loose interpret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Foreign relations? Favored Britain over Franc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ace (X,Y,Z and Convention of 1800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iminate opposition (Alien &amp; Sedition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Y / VA resolutions = nullif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ck the courts (Judiciary Act of 1801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Comic Sans MS"/>
              </a:rPr>
              <a:t>Marbury v. Madison establishes the principle of 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Comic Sans MS"/>
              </a:rPr>
              <a:t>Judicial review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3 Thomas Jeffers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volution of 180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gacy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uisiana Purchase / Lewis &amp; Clar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aves federalist programs inta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aves problem with France/Britain to Madison (Embargo of 1807 –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causes what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#4 James Madison /#5 James Monro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DIS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con’s Bill No 2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r of 181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Who supports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South/Wes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Who doesn’t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eaty of Gh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riff of 1816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Goal? Protect American industr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NRO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nry Clay – American Syste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Components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Protect/promote busines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Internal improvement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National Bank/Tariff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nic of 181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ra of Good Feeling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Purpose of the name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No political opposi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issouri Compromi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nroe Doctr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6 John Quincy Adam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rrupt Bargain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(Why named?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(Clay = Sec of State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riff of 1828 (Tariff of Abomination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olitical football – Scheme to create lose/lose for Adam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E oks to protect industr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outh deeply upset – major consumers of manufactured good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otential intrusion into slavery – loss of prestige/power in federal governmen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lhoun authors “The Exposition” – VP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(argument for?) state’s righ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licies increase voter turnout and create the “Era of the Common Man”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(return to the ideals of?) Jeffers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#7 Andrew Jacks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de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effersoni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gs to rich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poils syste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ecutive leadershi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ion firs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llification crisis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over what?) tariff polic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C vs. U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dian relo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ole of the Supreme Cour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nk of U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830s-1860: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estward Expansion &amp; Sectionalism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oostook War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who vs. who?) Maine vs. Canada over border dispu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nifest Destiny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what is this?) God given right to expan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was Oregon annexed peacefully, but not Texas?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why did it take so long for Texas to be a state?) controversy of expansion of slavery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e-Colonial Americ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quistadors – 3 G’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mallpox and the start of slavery leads to…….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deaths of millions of Nati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the new global economic system Europe has everything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bo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ke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BUT? Raw Materi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830s-1860: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estward Expansion &amp; Sectionalism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eaty of Guadalupe Hidalgo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(who got what?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New Mexico, California to US for $15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Rio Grande border of Tex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ilmot Proviso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(purpose?) no slavery in territories acquired in war with Mexic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stend Manifest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what?) secret offer to buy Cuba from Spai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esidents #8-1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VB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rris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yl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lk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best example of?) Manifest Destin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yl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llmo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ier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chan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eople and Even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Great Awakening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sets the foundation for?) social refor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rmons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why persecuted?) emphasis on community and cooperative effor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seph Smith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righam Young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topian commun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desire for?) social, religious or economic perfe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eople and Even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neca Falls Convention (1848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purpose?) expand rights of women until Civil War (switch to abolition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ult of domesticity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who, what?) glorified traditional role of women as wives and mothe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ah Webster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(contribution?) standardized American languag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race Mann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(goal of public education?) create informed citize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bolition and Coming Crisi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promise of 1850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conditions?)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alifornia in as free sta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Stronger fugitive slave la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Utah and NM open to ‘popular sovereignty’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No slave trade in Washington, D.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gitive Slave La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Northern response?) Increased abolitioni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rriet Beecher Stow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who, what, importance?) Intended to show cruelty of slave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bolition and Coming Crisi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ansas-Nebraska Act (1854)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example of?) popular sovereignty (let territory residents decide whether to allow slavery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reates increased northern opposition to slave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reates birth of Republican Par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xpands violence in Kans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•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now-Nothings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platform?) nativis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red Scott Decision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laves not citizens, and Congress can’t regulate expansion of slave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publican Party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platform?) no expansion of slave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ivil War and Reconstruc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•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ession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event?)1860 election of Lincol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aring North &amp; South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(advantages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North:  RR, Industry, Navy, Larger popul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South:  Better generals, moral cause, defense of homela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eign involvem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goals?)  weak America better for Britain and Fra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mancipation Proclamation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purpose?), strengthen Union moral caus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ivil War and Reconstruc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114800"/>
          </a:xfrm>
          <a:prstGeom prst="rect">
            <a:avLst/>
          </a:prstGeom>
          <a:noFill/>
          <a:ln w="9360">
            <a:solidFill>
              <a:srgbClr val="00c6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onstruction Pla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incol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10% Plan = rapid readmission of Southern stat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ade-Davi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Major difference between Congress and Presidents concerning Reconstruc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titutional Issu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Status of confederate stat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onstruction Amendments (13,14,15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13 = no slavery, 14 = rights of citizens, 15 = right to vote all mal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d of Reconstruction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event?) Compromise of 187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Wes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dia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nd of the Buffalo = end of Indian way of lif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ssimil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ttlers / Farme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Homestead Act = promote settle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Barb wire = end of open ran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Farmers produce for outside marke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RR exploiting farm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ndustry and Urbaniza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y terms/events/people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rizontal integr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ertical integr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cial darwinis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inese Exclusion A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state Commerce Commis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ndleton A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im Crow law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arly  English Settlemen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Jamestown – 1607 (Virginia Company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First successful settlement**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Joint-stock company: a group of investors who bought the right to establish New World plantations from the king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nglish not prepared – high death rates from starvation and disease (wife jerky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dian relations – one sided benefi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838080"/>
            <a:ext cx="8305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owth of Virginia (Chesapeake Region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ohn Rolfe – King tobacco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mpacts of succe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es need for more land = end of New England Indians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What was this last War called?) King Philips Wa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es need for more labor = indentured serva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fitability draws more colonis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gins southern single crop depend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rony of 161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irginia House of Burgess (first step to self-gov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rst shipment of African slav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ilgrims and Mass Bay Compan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ritan movement in England creates need for new relig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paratists leave England to create a new community in the Americas – Mayflower 1620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yflower Compact – governments power comes from the consent of the govern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ass Bay Colon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gregationalists (change church from within ) form larger colony in 1629 (better funded &amp; prepared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gregationalists and Separatists do not tolerate religious freedom (IRONIC?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Roger Williams banished (creates Rhode Island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Two big things about R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Religious freedom for al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Very Democrati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ne Hutchinson banished for preaching antinomianism (belief that those predestined need not obey secular law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ity Upon a Hill – John Winthrop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merican exceptionalism is the idea that the United States and the American people hold a special place in the world, by offering opportunity and hope for humanity, derived from a unique balance of public and private interests governed by constitutional ideals that are focused on personal and economic freedom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rowth of American Slaver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Indentured Serva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Primary source of labor until Bacon’s rebellion (why did they rebel?) poor land, no opportun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frican Sla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 expensive with similar contracts to indentured serva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fter Bacon, viewed as a less troublesome labor for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velops into ‘modern’ version with elimination of rights and permanent (hereditary) status as proper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Legal in all colonies by 170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lationship between the Colonies and Britai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licy of salutary neglect stimulates autonomy and self-government while fueling mercantilism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what is this?) Gain power through gold/silver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(how did the British government enforce?) Navigation Acts to control shipp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uropean struggles for power move to Amer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rench Indian War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(fought for control over?) Ohio Valle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bany Plan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(purpose?) colonial unity and common defens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eaty of Paris 1763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(outcome for France?) No territory in North Americ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clamation of 1763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(angers the colonists – why?) prohibits colonial settlement west of the Appalachian Mountai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9:28:46Z</dcterms:created>
  <dc:creator>Joeb</dc:creator>
  <dc:description/>
  <dc:language>en-US</dc:language>
  <cp:lastModifiedBy>School District U46</cp:lastModifiedBy>
  <dcterms:modified xsi:type="dcterms:W3CDTF">2013-01-13T20:51:04Z</dcterms:modified>
  <cp:revision>104</cp:revision>
  <dc:subject/>
  <dc:title>PowerPoint Presentation</dc:title>
</cp:coreProperties>
</file>